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150-C626-420A-AD1F-5B529F40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70C-27AE-4D75-8D49-FD8FC57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822-F4CF-4FD0-9A40-B363663C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E66-F377-4826-9022-0884064B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253-30E9-4577-B0EF-24DE427B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5AF-0CF7-4BC8-89EE-0B9FF80B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80A-F6B2-41F7-98D9-6C09BA2A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F98-81B5-4D7A-93AC-7F7C2B8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58F-543F-421E-A110-600DB17B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407-2884-4902-A017-B534C20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9D6-2786-4BF4-8CF9-CBBFE7B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4BF-6938-49AD-AC32-A70020A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B5AB-95FF-4580-8498-383387C15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1676520" y="838080"/>
            <a:ext cx="5638680" cy="51786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3581280" y="251460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668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Map-Defining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4:19:34Z</dcterms:created>
  <dc:creator>Computer Services</dc:creator>
  <dc:description/>
  <dc:language>en-US</dc:language>
  <cp:lastModifiedBy>WRECKLESS</cp:lastModifiedBy>
  <dcterms:modified xsi:type="dcterms:W3CDTF">2010-08-01T17:09:35Z</dcterms:modified>
  <cp:revision>1</cp:revision>
  <dc:subject/>
  <dc:title>Slide 1</dc:title>
</cp:coreProperties>
</file>